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6BA-F2B0-48E7-8001-F39470DE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FAD-19CF-4FC6-A72A-5F6486EE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1FF-E52A-45A2-92B7-E9F1351C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F52-6329-43FC-A96E-56FCE237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6E3F-C3B2-4380-B29E-6ADD3A9B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088B-D9FE-42D7-AF3D-20C0ECE4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ADC5-70D8-442E-B7DA-8D7BC851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B238-03CB-4299-B1FB-6BE2FFA1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0343-08F1-40FE-8D8C-6801708C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37D9-838A-49CE-8C04-18A53709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3EAF-DE30-4812-BDE6-B2BF7F94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734-B874-48EE-8DC7-CFD390EC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B43A-A680-4F11-9FA7-5BC49878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89EA-741A-4E9A-868B-7A1D8023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741A-0A12-45FB-BFE8-67B1AFC5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9781-F572-485F-A7A2-5327B594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CDEF-5A1A-4856-AFA0-B109F575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9DD-B361-4E4B-A268-8C4C4235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918-149E-4FC7-8FD2-D1CAE49D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617-AC46-4334-98FA-474EA5CB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19C-0B23-45CD-9F26-5F395925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2EE-F6FE-4D56-B6EA-2272063C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647-17FF-49FB-AC1C-049D3B63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EDB-0205-4004-A33C-3C3BC7F8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3FF8-2B5D-4C98-B75B-7A337BBB65D8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906F-16BE-4626-852B-B6377213940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A0D7-87FC-40E6-B60D-59C9125FF19F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18C3-B47C-4A23-A0C3-2094476C41A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456480"/>
            <a:ext cx="7620120" cy="539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omic Sans MS"/>
              </a:rPr>
              <a:t>IL CAPITOLATO PER IL SERVIZIO A NOLEGGIO DEI DISPOSITIVI PER L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ff"/>
                </a:solidFill>
                <a:latin typeface="Comic Sans MS"/>
              </a:rPr>
              <a:t>TERAPIA A PRESSIONE NEGATIVA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Del. N°944 del 5/11/200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10080" y="4114800"/>
          <a:ext cx="344808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4114800"/>
                    <a:ext cx="344808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adice Barba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29F0-B044-483C-A6C7-9A360FAEEF2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2AFC256-06F9-47A8-8A4D-810CF4C948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42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i tratta di acquisire il servizio di noleggio del dispositivo per terapia a pressione negativa delle ferite essudanti, di difficile guarigi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2819520"/>
            <a:ext cx="7010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Il servizio avrà durata di 4 anni…….. dalla data di superamento del periodo di prova stabilito in mesi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j0078629" descr=""/>
          <p:cNvPicPr/>
          <p:nvPr/>
        </p:nvPicPr>
        <p:blipFill>
          <a:blip r:embed="rId1"/>
          <a:stretch/>
        </p:blipFill>
        <p:spPr>
          <a:xfrm>
            <a:off x="6172200" y="4191120"/>
            <a:ext cx="217656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dice Barba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449-41AD-42D3-85CA-60C9F204B9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1340B-2C28-444C-8B59-2A28342CD949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5135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……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La DSA, sentiti i Direttori di Dip. E le DMP di Presidio, rilascerà una relazione sul superamento del periodo di prova che invierà all’USC Acquisti e che trasmetterà poi alla Ditta Aggiudicataria e, pc, alla USC Logistica e gestione Servizi Economali ed Alberghieri……………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3962520"/>
            <a:ext cx="7010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rt.2….si stabiliscono 2 LOT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ff"/>
                </a:solidFill>
                <a:latin typeface="Comic Sans MS"/>
              </a:rPr>
              <a:t>1. …per il trattamento delle ferite di difficile guarig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ff"/>
                </a:solidFill>
                <a:latin typeface="Comic Sans MS"/>
              </a:rPr>
              <a:t>2. …per il trattamento delle ferite cavitarie, tunnellizzate o sotto minat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j0078705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547640" cy="19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dice Barba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11A-8412-4813-B0D2-33BFE2C71A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D1919-DDD3-45B1-9C17-8E9404E60B17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2895480"/>
            <a:ext cx="7513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……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La DSA, sentiti i Direttori di Dip. E le DMP di Presidio, rilascerà una relazione sul superamento del periodo di prova che invierà all’USC Acquisti e che trasmetterà poi alla Ditta Aggiudicataria e, pc, alla USC Logistica e gestione Servizi Economali ed Alberghieri……………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45684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rt.4….si stabiliscono giornate quadriennali per il noleggi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LOTTO 1: 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N°5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LOTTO 2: 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N°13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j0078725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361960" cy="16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dice Barba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791-A3BA-411C-9AD8-09AEC3AE51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C303F-884E-4E04-8379-5E506A39EECC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6854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rt. 4….La Ditta garantisce….tutto il materiale consumabile, compreso il cambio delle medicazioni e dei contenitori…….. Il cambio di medicazione ogni 2 giorni…il cambio dei contenitori ogni 4 giorni…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j0078736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3989520" cy="29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dice Barba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E42-6A63-4AAD-B0AA-828E6C79C1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5A0CF-7BBA-4489-B199-7A379A90A2B4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rt. 5 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La richiesta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…invio tramite fax del modulo 1, alla Ditta e all’Economato del P.O…..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La sospensione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….tramite modulo 2….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La consegna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….collaudo a carico della Ditta…..con il certificato di verifica della sicurezza elettrica……….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L’addestramento e la consulenza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 al personale per i diversi turni di lavoro, per tutta la durata del servizio…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j0078793" descr=""/>
          <p:cNvPicPr/>
          <p:nvPr/>
        </p:nvPicPr>
        <p:blipFill>
          <a:blip r:embed="rId1"/>
          <a:stretch/>
        </p:blipFill>
        <p:spPr>
          <a:xfrm>
            <a:off x="4648320" y="4572000"/>
            <a:ext cx="2895480" cy="15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dice Barba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B8D-6186-402D-86DA-08287D644D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3149D-AFD2-4AC5-9EFE-083B0EB60CBD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rt.7 La 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modalità di consegna-ritiro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…. entro le ore 12 del giorno indicato….la bolla è in triplice copia (due copie vengono consegnate all’U.O. richiedente che ne trasmetterà una all’Economato del P.O., la terza copia verrà trattenuta dalla Ditta…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3733920"/>
            <a:ext cx="5486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rt.8 Il 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controllo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…a cura del Coordinatore o suo delegato….le 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anomalie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…vanno segnalate per iscritto alla DMP del P.O. e all’USC Logistica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j0078802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1828800" cy="16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dice Barba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30E-D2BB-4BC8-801C-2E485CDE61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ADB4F-BC23-4383-A155-426E9B934F5D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95280" y="533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ff"/>
                </a:solidFill>
                <a:latin typeface="Comic Sans MS"/>
              </a:rPr>
              <a:t>Attualmente è in corso la verifica Tecnica da parte della Commissione Aggiudicatrice delle offerte pervenute all’Area Acqui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E01561_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dice Barba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EE5-E3D4-4587-BDD1-B236588981C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CF9D9-F800-4571-B7D1-E1C9BA9D83D2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adice</cp:lastModifiedBy>
  <dcterms:modified xsi:type="dcterms:W3CDTF">2010-04-09T09:48:38Z</dcterms:modified>
  <cp:revision>13</cp:revision>
  <dc:subject/>
  <dc:title>Presentazione di PowerPoint</dc:title>
</cp:coreProperties>
</file>